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CD2E-6A3B-4C7E-B6B3-8A0FF59E3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5C0C-1D19-4762-BF05-906351C27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896-1117-43ED-9AA0-7483EB0D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49D-AFCA-4AF4-95CD-2D661DE6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449-ED26-47D1-AF3D-C4E171CA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C9A-1600-4F5D-81C1-746C3A32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79A-6329-4DCF-AEAF-A26B2A56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6DC-0E74-4E71-AF32-6E8EE921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6E9-90D7-492B-9279-0AA6068D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FD2-4587-447B-90DD-4B224810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49D9-6110-432A-A283-1EF6ED3C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68E-A5D4-4286-A1F8-39D46C52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7CA-4CE9-407D-8F09-F8B91536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1FC-17CB-44CB-A35B-81F3A2B9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8135-4987-4002-8BC0-F81482FF5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lorence P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nombre es Florence, yo vivo en la South side  de  Brooklyn. Yo soy catorce ano y tiengo uno hermano y duce hermanas. Soy como feliz, and loca. Adios amigo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ien pero que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Muy bien y tú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 Buenas dia amigas como est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Screen Shot 2012-12-05 at 1.24.19 PM.png"/>
          <p:cNvPicPr/>
          <p:nvPr/>
        </p:nvPicPr>
        <p:blipFill>
          <a:blip r:embed="rId12"/>
          <a:stretch/>
        </p:blipFill>
        <p:spPr>
          <a:xfrm>
            <a:off x="76320" y="1219320"/>
            <a:ext cx="1490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7:04Z</dcterms:modified>
  <cp:revision>107</cp:revision>
  <dc:subject/>
  <dc:title>Profile</dc:title>
</cp:coreProperties>
</file>